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501-E6F3-4101-929D-9E13100B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D88-D087-4779-AED8-45D924D0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70C-2583-4D5A-86EC-530FE11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E9B-C3A5-4442-AA11-2DC3475A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F5F3-E163-49A5-891D-8C2207BE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3086-BE19-41D4-9F5C-C289391F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0833-915E-4980-A99F-A6ECB22A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B31D-67AE-4636-A776-927DC24E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078F-D067-439A-A345-F9C332E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25FB-20B4-4CDB-A394-578D45CD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881B-B8F2-4BB1-91D0-E68D81F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B91-1EB3-40AB-A781-2661D737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FDF-4126-431F-9254-8091A2BF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5F47-844E-4831-B149-2C6D51C6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B5A9-7EA4-4D90-A0B1-F215739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2184-707E-42F1-94F8-A12E4C17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F1E-4D0D-4C66-9C2B-DE21712F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4A6B-033A-4CD0-956F-4F33C03F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4B23-EFD0-46E6-9AF7-57F049B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FC69-B7DB-4870-B1A3-DE7F1FFA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66FB-7DFD-4093-A1B1-42FA808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268E-DA01-4C08-B6EA-F1C1CE6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A00-3062-4E3B-B536-03800A55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3B9C-7E31-4241-B758-A3365989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18D1-FE00-4727-A438-CAC1271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7ABE-07F9-4E65-B348-F285B51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3ABC-90A4-4B67-9869-273C7C4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BDC0-89B1-4DF9-9F02-BF2C9A6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5BD6-93B0-4150-BB7E-EDB553E9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703A-7E73-40F2-A7B1-56B395CB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83C-B83F-4CE0-87E0-6F2C1B8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361-397F-41DF-B2AD-F8E4BA6B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356-A0A9-4114-A5DD-358A5F3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444-D00F-4E00-8473-940AD55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DF2-18A0-4F15-B70D-A4791D4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4B7-86C8-45E9-B7B9-B88C9401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2AA-D0D2-4E77-AA33-F8EF5436786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B39-9E29-4134-AA09-E3A140E2A8E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9318-4DC9-43BB-960C-FE317C75C67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smiles.33b.ru/smile.1648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iles.33b.ru/smile.16500.html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969840" y="353880"/>
            <a:ext cx="7545600" cy="3651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916000" y="3428640"/>
            <a:ext cx="54608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урок для студентов 1 кур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Автор: Скрыльникова Валентина Евгеньев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Преподаватель матема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ГБПОУ «НЭТ» г. Невинномысс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308800" cy="21765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84464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вести замену переменной: 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ставить квадратное уравнение с новой переменной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у + с 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шить новое 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ернуться к замене перемен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шить получившиеся квадратные урав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Сделать вывод о числе решений би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писать отв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02680" cy="1298520"/>
          </a:xfrm>
          <a:prstGeom prst="rect">
            <a:avLst/>
          </a:prstGeom>
          <a:ln w="0">
            <a:noFill/>
          </a:ln>
        </p:spPr>
      </p:pic>
      <p:pic>
        <p:nvPicPr>
          <p:cNvPr id="185" name="Подзаголовок 6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8308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Уравнения степень которых выше двух, иногда удается решить, введя новую переменную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7" name="Объект 1" descr=""/>
          <p:cNvPicPr/>
          <p:nvPr/>
        </p:nvPicPr>
        <p:blipFill>
          <a:blip r:embed="rId1"/>
          <a:stretch/>
        </p:blipFill>
        <p:spPr>
          <a:xfrm>
            <a:off x="176040" y="2133720"/>
            <a:ext cx="87361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308800" cy="1585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305560" cy="3717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Зажмурить глаза. Открыть глаза (5 раз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Круговые движения глазами. Головой не вращать (10 раз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е поворачивая головы, отвести глаза как можно дальше влево. Не моргать. Посмотреть прямо. Несколько раз моргнуть. Закрыть глаза и отдохнуть. То же самое вправо (2-3 раза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мотреть на какой-либо предмет, находящийся перед собой, и поворачивать голову вправо и влево, не отрывая взгляда от этого предмета (2-3 раза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Смотреть в окно вдаль в течение 1 мину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Поморгать 10-15 с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охнуть, закрыв глаз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3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308800" cy="11527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305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6=0                                       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8 = 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,                                             пусть у=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тогд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х–5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(3х–5)=12                            (6х+1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(6х+1) –24=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                                               пусть у=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тогд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25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44 = 0                                1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8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 = 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                                               пусть у=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                                                  тог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1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7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0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3" dur="2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6" dur="2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9" dur="2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2" dur="2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5" dur="2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8" dur="2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ка знаний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6=0                        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8 = 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пусть у=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3у+36=0                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у-28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х–5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(3х–5)=12           (6х+1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(6х+1) –24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3х-5,                       пусть у= 6х+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у-12=0                  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у-24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25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44 = 0                16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8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+ 1 = 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 пусть у= 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5у+144=0               тогда 16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у+1=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5" name="Объект 8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229600" cy="57974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2"/>
          <p:cNvSpPr/>
          <p:nvPr/>
        </p:nvSpPr>
        <p:spPr>
          <a:xfrm>
            <a:off x="645480" y="6215040"/>
            <a:ext cx="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396720" y="0"/>
            <a:ext cx="8302680" cy="153036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2"/>
          <a:stretch/>
        </p:blipFill>
        <p:spPr>
          <a:xfrm>
            <a:off x="249120" y="1407960"/>
            <a:ext cx="83520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302680" cy="153036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1689120"/>
            <a:ext cx="8571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308800" cy="1444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305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6=0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(2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2(2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+11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8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(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1(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+28=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04280"/>
            <a:ext cx="7543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Цел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ающие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организации деятельности учащихся по восприятию,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осмыслению и первичному запоминанию новых знаний (метод введения новой переменной, определение биквадратного уравнения) и способов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действий (научить решать уравнения методом введения новой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переменной), помочь учащимся осознать социальную и личностную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значимость учебного материал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ивающие: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повышению вычислительной способности учащихся;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развитию устной математической речи; создать условия для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формирования навыков самоконтроля и взаимоконтроля,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алгоритмической культуры учащих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: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способствовать воспитанию доброжелательного отношения</a:t>
            </a:r>
            <a:r>
              <a:rPr b="0" lang="ru-RU" sz="2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друг к друг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Самостоятельная работа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отве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Объект 1" descr=""/>
          <p:cNvPicPr/>
          <p:nvPr/>
        </p:nvPicPr>
        <p:blipFill>
          <a:blip r:embed="rId1"/>
          <a:stretch/>
        </p:blipFill>
        <p:spPr>
          <a:xfrm>
            <a:off x="384120" y="1987560"/>
            <a:ext cx="83026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2322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10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1)(2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4)+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4х)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9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4х)+20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(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)( х</a:t>
            </a:r>
            <a:r>
              <a:rPr b="1" lang="ru-RU" sz="2400" spc="-1" strike="noStrike" baseline="30000">
                <a:solidFill>
                  <a:srgbClr val="002060"/>
                </a:solidFill>
                <a:latin typeface="Times New Roman"/>
                <a:ea typeface="Calibri"/>
              </a:rPr>
              <a:t>2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+х-5)=8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http://s.rimg.info/1e009f83bf9da236bc99cfd5a05f920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66840"/>
            <a:ext cx="213012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двести итог урока , сделать выводы, что удалось или не удалось прошу закончить предложения на лист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о интересно , потому что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бы хотел(а) похвалить себя за то , что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я бы оценил(а) на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6560" y="1268280"/>
            <a:ext cx="7455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редством уравнений, теоре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н уйму всяких разрешил пробле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засуху он предсказал, и ливни –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истине его познанья дивн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ер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6964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Математическая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размин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7640" y="1773360"/>
            <a:ext cx="2808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1) 4х – 5 = х + 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2) 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+2х =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3) 2х + 6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4) 2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– 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 – 4 = 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5) 4х</a:t>
            </a:r>
            <a:r>
              <a:rPr b="0" lang="ru-RU" sz="2400" spc="-1" strike="noStrike" baseline="30000">
                <a:solidFill>
                  <a:srgbClr val="083763"/>
                </a:solidFill>
                <a:latin typeface="Times New Roman"/>
                <a:ea typeface="Calibri"/>
              </a:rPr>
              <a:t>2</a:t>
            </a:r>
            <a:r>
              <a:rPr b="0" lang="ru-RU" sz="2400" spc="-1" strike="noStrike">
                <a:solidFill>
                  <a:srgbClr val="083763"/>
                </a:solidFill>
                <a:latin typeface="Times New Roman"/>
                <a:ea typeface="Calibri"/>
              </a:rPr>
              <a:t> – 1х + 7 = 0</a:t>
            </a:r>
            <a:r>
              <a:rPr b="0" lang="ru-RU" sz="2400" spc="-1" strike="noStrike">
                <a:solidFill>
                  <a:srgbClr val="083763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916000" y="1653840"/>
            <a:ext cx="604836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1.Какие уравнения называются квадратными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4" descr="математика2"/>
          <p:cNvPicPr/>
          <p:nvPr/>
        </p:nvPicPr>
        <p:blipFill>
          <a:blip r:embed="rId1"/>
          <a:stretch/>
        </p:blipFill>
        <p:spPr>
          <a:xfrm>
            <a:off x="0" y="27000"/>
            <a:ext cx="171468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Объект 3"/>
          <p:cNvSpPr/>
          <p:nvPr/>
        </p:nvSpPr>
        <p:spPr>
          <a:xfrm>
            <a:off x="2987640" y="2155680"/>
            <a:ext cx="60501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(Уравнение вида , где  </a:t>
            </a:r>
            <a:r>
              <a:rPr b="1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х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 – переменная,  </a:t>
            </a:r>
            <a:r>
              <a:rPr b="0" lang="en-US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b 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и </a:t>
            </a:r>
            <a:r>
              <a:rPr b="0" lang="en-US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c</a:t>
            </a:r>
            <a:r>
              <a:rPr b="0" lang="ru-RU" sz="2200" spc="-1" strike="noStrike">
                <a:solidFill>
                  <a:srgbClr val="083763"/>
                </a:solidFill>
                <a:latin typeface="Times New Roman"/>
                <a:ea typeface="Calibri"/>
              </a:rPr>
              <a:t>- некоторые числа, причем а≠0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бъект 3"/>
          <p:cNvSpPr/>
          <p:nvPr/>
        </p:nvSpPr>
        <p:spPr>
          <a:xfrm>
            <a:off x="2970360" y="2924280"/>
            <a:ext cx="6048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Среди данных уравнений выберите те, которые являются квадратн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бъект 3"/>
          <p:cNvSpPr/>
          <p:nvPr/>
        </p:nvSpPr>
        <p:spPr>
          <a:xfrm>
            <a:off x="3052800" y="3681360"/>
            <a:ext cx="390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Calibri"/>
                <a:ea typeface="Calibri"/>
              </a:rPr>
              <a:t>Ответ: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2,3,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3"/>
          <p:cNvSpPr/>
          <p:nvPr/>
        </p:nvSpPr>
        <p:spPr>
          <a:xfrm>
            <a:off x="2916360" y="39387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Calibri"/>
              </a:rPr>
              <a:t>3.Какие уравнения называются неполными квадратными уравнениями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бъект 3"/>
          <p:cNvSpPr/>
          <p:nvPr/>
        </p:nvSpPr>
        <p:spPr>
          <a:xfrm>
            <a:off x="2987640" y="4626000"/>
            <a:ext cx="561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Уравнения, в которых хотя бы один из коэффициентов </a:t>
            </a:r>
            <a:r>
              <a:rPr b="1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в 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или </a:t>
            </a:r>
            <a:r>
              <a:rPr b="1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с</a:t>
            </a: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 равен 0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ъект 3"/>
          <p:cNvSpPr/>
          <p:nvPr/>
        </p:nvSpPr>
        <p:spPr>
          <a:xfrm>
            <a:off x="2987640" y="5265720"/>
            <a:ext cx="6050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Times New Roman"/>
                <a:ea typeface="Calibri"/>
              </a:rPr>
              <a:t>4.Среди данных уравнений выберите те, которые являются неполными квадратными уравнения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бъект 3"/>
          <p:cNvSpPr/>
          <p:nvPr/>
        </p:nvSpPr>
        <p:spPr>
          <a:xfrm>
            <a:off x="3052800" y="5950080"/>
            <a:ext cx="6049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83763"/>
                </a:solidFill>
                <a:latin typeface="Times New Roman"/>
                <a:ea typeface="Calibri"/>
              </a:rPr>
              <a:t>(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314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ТЕСТ-ПРОГНОЗ</a:t>
            </a:r>
            <a:br>
              <a:rPr sz="50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3х-5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=0    2) 2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4х-6=0    3) 8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16=0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4х+10=0   5) 4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х=0   6) –2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=0   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) -7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0   8) 15-4х</a:t>
            </a:r>
            <a:r>
              <a:rPr b="0" lang="ru-RU" sz="2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3х=0</a:t>
            </a:r>
            <a:br>
              <a:rPr sz="4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3357720"/>
            <a:ext cx="4425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вариант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 Выпишите номера полных квадратных уравнени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 Выпишите коэффициенты а, в, с в уравнении 8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 Выпишите номер неполного квадратного уравнения , имеющего один корень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 Выпишите коэффициенты а, в, с в уравнении 6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 Найдите Д в уравнении 4 и сделайте вывод о количестве корней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158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6480" y="3284280"/>
            <a:ext cx="4349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8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вариан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)Выпишите номера неполных квадратных уравнени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)Выпишите коэффициенты а, в, с в уравнении 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)Выпишите номер неполного квадратного уравнения , имеющего один корень 0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)Выпишите коэффициенты а, в, с в уравнении 3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)Найдите Д в уравнении 3и сделайте вывод о количестве корней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15840" algn="ctr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38" descr="http://s.rimg.info/3bffde1cba3dd9d81ff3f03bf363fec3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24000" y="5475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260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Ответы для самопровер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84428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,2,4,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4, в=3,с=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2, в=0,с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24, Д&lt;0, корней н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,5,6,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-5, в=3,с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=8, в=0,с=-1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&gt;0, 2корн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Игра «Угадай слово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390600" y="1639800"/>
            <a:ext cx="85042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7600" y="26028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560" y="198900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«Биквадратное уравнение.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Опр. 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Уравнения вид 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ax</a:t>
            </a:r>
            <a:r>
              <a:rPr b="1" i="1" lang="ru-RU" sz="3000" spc="-1" strike="noStrike" baseline="30000">
                <a:solidFill>
                  <a:srgbClr val="08684e"/>
                </a:solidFill>
                <a:latin typeface="Times New Roman"/>
                <a:ea typeface="Times New Roman"/>
              </a:rPr>
              <a:t>4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+bx</a:t>
            </a:r>
            <a:r>
              <a:rPr b="1" i="1" lang="ru-RU" sz="3000" spc="-1" strike="noStrike" baseline="30000">
                <a:solidFill>
                  <a:srgbClr val="08684e"/>
                </a:solidFill>
                <a:latin typeface="Times New Roman"/>
                <a:ea typeface="Times New Roman"/>
              </a:rPr>
              <a:t>2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+c= 0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, где </a:t>
            </a:r>
            <a:r>
              <a:rPr b="0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а 0,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квадратным уравнением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КВАДРАТНЫЕ УРАВНЕНИЯ – от </a:t>
            </a: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би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– два и латинского </a:t>
            </a:r>
            <a:r>
              <a:rPr b="1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quadratus</a:t>
            </a:r>
            <a:r>
              <a:rPr b="0" lang="ru-RU" sz="30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 – квадратный, т.е. дважды квадратны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ассмотрим решение биквадратных уравнен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249120" y="1689120"/>
            <a:ext cx="85708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7:15:19Z</dcterms:created>
  <dc:creator>Admin</dc:creator>
  <dc:description/>
  <dc:language>en-US</dc:language>
  <cp:lastModifiedBy>Преподаватель НЭТ</cp:lastModifiedBy>
  <dcterms:modified xsi:type="dcterms:W3CDTF">2022-01-11T07:15:07Z</dcterms:modified>
  <cp:revision>55</cp:revision>
  <dc:subject/>
  <dc:title>Уравнения, приводимые к квадратным</dc:title>
</cp:coreProperties>
</file>